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AC1-B9D3-4F91-BF44-7123AEC4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DCF-DD11-43A0-ACD7-4CF8F3CF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280-C822-49C5-8D7E-BFB9013D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0FC-C835-48AF-B982-0F7F258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259-2686-4412-8014-BCE103B5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840-5238-4A2A-8B42-E1A0860B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D1C-3B62-49FA-8453-D52D2C2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B44-8998-45A3-946B-A88C6B4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A81-E24F-4F68-812A-F283AA1F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1E5-3E68-49CC-8813-4595A27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319-6DCC-48C9-B597-B39501E6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A1A-CCCF-4012-B803-40536ABA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2CE9-5188-455C-98CE-F26A6FFFC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3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3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34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9" dur="1" fill="hold"/>
                                  <p:tgtEl>
                                    <p:spTgt spid="35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35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3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3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3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31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3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Employee</cp:lastModifiedBy>
  <cp:lastPrinted>2001-08-14T21:30:16Z</cp:lastPrinted>
  <dcterms:modified xsi:type="dcterms:W3CDTF">2009-05-21T13:56:56Z</dcterms:modified>
  <cp:revision>146</cp:revision>
  <dc:subject/>
  <dc:title>PowerPoint Presentation</dc:title>
</cp:coreProperties>
</file>